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30BA-88C3-49DA-9A77-668527E04F3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D083-3DBC-4570-B492-B924CFD2CF7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A0B5-217D-41D4-ACEA-766611123B9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4729-5555-4138-BAD1-CDAB197FBDC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B98B-3C8C-434F-9855-DB0E8A51091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7A6B-31A5-424C-AB97-637EA5A4B54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0F76-F645-4FF8-9F7B-C702B4BE335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D318-0302-4BC8-B52C-F1860435779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59E9-7347-436D-B721-9EEEF866CFE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15A3-535A-45A6-9FB2-2CA03EAC832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0951C-4699-4883-A662-4CF0FC5D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B1EA1-E9E2-4A54-9EF4-7B947AA4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B3DE1-1AD4-42D1-B94F-A33F56D9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2E111-FAE9-4335-959E-2FDB1383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DEC0-B677-4257-B3FC-525E79EB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0E60-A9E1-409A-BA72-F21DD515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6B99-FB46-4F66-BB97-CBCF8CFC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9311-5E09-4BDE-B87B-8D18B018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6AA5-F11E-496C-892F-145903FB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7185-4ED4-4840-B7BA-839B8D31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1583-2BD3-4EF0-9548-390DD647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049A4-3DD2-4CAA-AB26-5E5D32FF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6CBA-AB69-44B9-994F-537007DE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EEE2-F565-43DD-97B0-AA498A5D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5729-E055-4689-917E-B729FF1F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B921-FDCA-4322-8BB9-19D70E5C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8B87-183B-4C23-B085-04208728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A555C-B103-4E62-A8C4-B2C6FD02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DC416-7111-40A1-B797-FBDD9E9D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4AB3-7003-4EAD-BCA1-4044CAC0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97201-50FA-4C26-BB0E-317A10F6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6C111-0590-491D-BF69-A330AF48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582A4-F83D-441C-AB62-67447C17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18757-42F1-4028-BA4C-EC7976CF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C1DE-53AA-4803-A30C-DD929AB1A53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C636-2CA5-4A92-8E64-D69D89A9CB0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Alexandre_2_photo.jpg?uselang=ru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ломовщина и Маниловщ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7" descr="539"/>
          <p:cNvPicPr/>
          <p:nvPr/>
        </p:nvPicPr>
        <p:blipFill>
          <a:blip r:embed="rId1"/>
          <a:stretch/>
        </p:blipFill>
        <p:spPr>
          <a:xfrm>
            <a:off x="838080" y="1447920"/>
            <a:ext cx="3391200" cy="419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0_5005d_3ec143d4_L"/>
          <p:cNvPicPr/>
          <p:nvPr/>
        </p:nvPicPr>
        <p:blipFill>
          <a:blip r:embed="rId2"/>
          <a:stretch/>
        </p:blipFill>
        <p:spPr>
          <a:xfrm>
            <a:off x="4724280" y="1523880"/>
            <a:ext cx="3813120" cy="385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914400" y="53352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Цель исследования- установить значение терминов «обломовщина» и «маниловщина»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066680" y="2743200"/>
            <a:ext cx="67820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Раскрыть характер Обломова ( «Обломов», И.Гончар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Раскрыть характер Манилова ( «Мертвые души», Н.Гогол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Выявить, являются ли образы жизни и мышления данных героев широко распространенными, имеющими значимость в общест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2057400" y="228600"/>
            <a:ext cx="4562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арактеристика Облом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990720"/>
            <a:ext cx="8126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им предстает перед читателем Обломов в самом начале романа: «Это был человек лет тридцати двух-трех от роду, среднего роста, приятной наружности, с темно-серыми глазами, но с отсутствием всякой определенной идеи, всякой сосредоточенности в чертах лица…Движения его, когда он был даже встревожен, сдерживались также мягкостью и не лишенною своего рода грации ленью. Вся тревога разрешалась вздохом и замирала в апатии или дремоте. Лежание у Ильи Ильича не было… необходимостью… это было его нормальным состоянием». Домашний костюм Обломова – восточный халат, а также подробно описанный автором быт Ильи Ильича, дополняют образ героя и помогают лучше понять его характер. «По стенам, около картин, лепилась в виде фестонов паутина, напитанная пылью; зеркала, вместо того чтоб отражать предметы, могли бы служить скорее скрижалями для записывания на них по пыли каких-нибудь заметок на память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0" y="4706640"/>
            <a:ext cx="660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 нами возникает персонаж далеко нелицеприятный, кажется, лень, пассивность, равнодушие глубоко укоренились в нем. Но в то же время на фоне своих «друзей», лживых, корыстных, хвастливых людей, нанесших ему визит в самом начале романа, читатель знакомиться с положительными качествами Обломова: чистотой мыслей, честностью, добротой, сердечностью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10" descr="265652147"/>
          <p:cNvPicPr/>
          <p:nvPr/>
        </p:nvPicPr>
        <p:blipFill>
          <a:blip r:embed="rId1"/>
          <a:stretch/>
        </p:blipFill>
        <p:spPr>
          <a:xfrm>
            <a:off x="6477120" y="3305160"/>
            <a:ext cx="2666880" cy="355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4"/>
          <p:cNvSpPr txBox="1"/>
          <p:nvPr/>
        </p:nvSpPr>
        <p:spPr>
          <a:xfrm>
            <a:off x="2057400" y="228600"/>
            <a:ext cx="4562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арактеристика Облом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853920"/>
            <a:ext cx="6908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ть Обломова – типичный путь провинциальных дворян начала 19 века. Он служил в департаменте, занимался рутинной работой, из года в год ждал повышения. Но такая никчемная жизнь была не нужна герою. Он выбрал лежание на диване и стороннее созерцание пороков своего времени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   Душа Обломова не лишена мечтательности. Он лирик, умеющий глубоко чувствовать. Но его образ жизни приглушил эту душевную особенность героя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17"/>
          <p:cNvPicPr/>
          <p:nvPr/>
        </p:nvPicPr>
        <p:blipFill>
          <a:blip r:embed="rId1"/>
          <a:stretch/>
        </p:blipFill>
        <p:spPr>
          <a:xfrm>
            <a:off x="5848200" y="4429080"/>
            <a:ext cx="329580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0" y="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ломовщина, по имени героя романа Ивана Гончарова «Обломов» — нарицательное слово для обозначения общественного и личностного застоя, рутины, апатии. В указанном романе слово впервые употребил Штольц, а затем его повторял и сам Обломов, характеризуя собственный образ жиз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му явлению посвящена критическая статья Николая Александровича Добролюбова «Что такое обломовщина?», в которой публицист высказал свои взгляды на истоки обломовщины — они, по его мнению, кроются в традиционном крепостном укладе жизни России в условиях до реформы Александра I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6" descr="Александр II Николаеви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4920" y="2971800"/>
            <a:ext cx="2359080" cy="3495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%D0%B1%D0%BB%D0%B0%D0%B3%D0%BE%D0%B4%D0%B0%D1%80%D0%BD%D0%BE%D1%81%D1%82%D1%8C-%D0%BA%D1%80%D0%B5%D1%81%D1%82%D1%8C%D1%8F%D0%BD-%D0%90%D0%BB%D0%B5%D0%BA%D1%81%D0%B0%D0%BD%D0%B4%D1%80%D1%83-2"/>
          <p:cNvPicPr/>
          <p:nvPr/>
        </p:nvPicPr>
        <p:blipFill>
          <a:blip r:embed="rId3"/>
          <a:stretch/>
        </p:blipFill>
        <p:spPr>
          <a:xfrm>
            <a:off x="2209680" y="2971800"/>
            <a:ext cx="4534200" cy="26496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0"/>
          <p:cNvSpPr/>
          <p:nvPr/>
        </p:nvSpPr>
        <p:spPr>
          <a:xfrm>
            <a:off x="2286000" y="5638680"/>
            <a:ext cx="31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лагодарность крестьян Александру II. Гравюра. Начало 1883 г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6910560" y="649116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лександр 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0" y="33480"/>
            <a:ext cx="9144000" cy="71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итата из критической статьи Н.А. Добролюбова, описывающая образ мышления и жизни обломовцев 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бломов не есть существо, от природы совершенно лишенное способности произвольного движения. Его лень и апатия есть создание воспитания и окружающих обстоятельств. Главное здесь не Обломов, а обломовщи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б Илье Ильичу не лень было уехать из Петербурга в деревню, он непременно привел бы в исполнение задушевную свою идиллию.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дей обломовцы вообще презирают с их мелким трудом, с их узкими понятиями и близорукими стремлениями. В отношении к женщинам все они ведут себя одинаково постыдным образ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обломовцы любят уничижать себя; но это они делают с той целью, чтоб иметь удовольствие быть опровергнутыми и услышать себе похвалу от тех, пред кем они себя ругаю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кровища были зарыты в натуре Обломова, только раскрыть их пред миром он никогда не мо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ломовцы сначала спокойно смотрят на общее движение, но потом, по своему обыкновению, трусят и начинают кричать... "Аи, аи, - не делайте этого, оставьте, - кричат они, видя, что подсекается дерево, на котором они сидят. - Помилуйте, ведь мы можем убиться, и вместе с нами погибнут те прекрасные идеи, те высокие чувства, те гуманные стремления, то красноречие, тот пафос, любовь ко всему прекрасному и благородному, которые в нас всегда жили... Оставьте, оставьте! Что вы делаете?..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6" descr="2_2b"/>
          <p:cNvPicPr/>
          <p:nvPr/>
        </p:nvPicPr>
        <p:blipFill>
          <a:blip r:embed="rId1"/>
          <a:stretch/>
        </p:blipFill>
        <p:spPr>
          <a:xfrm>
            <a:off x="5191200" y="1095480"/>
            <a:ext cx="3952800" cy="576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0" y="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иловщина - Мечтательное и бездеятельное отношение к окружающему, беспочвенное благодуш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0" y="121932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иловцы- любители приврать, взболтнуть. Они бездеятельны, т.к. практически постоянно находятся в мире своих фантаз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1676520" y="152280"/>
            <a:ext cx="6057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арактеристика Манил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1135080"/>
            <a:ext cx="914400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илов— персонаж поэмы Н.В.Гоголя «Мертвые души». Имя Манилов (от глагола «манить», «заманивать») иронически обыгрывается Гоголем. Оно пародирует лень, бесплодную мечтательность, прожектерство, сентименталь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арактер героя не определен, не уловим. «Один бог разве мог сказать, какой характер у Манилова. Есть род людей, известных под именем: ни то, ни сё, ни в городе Богдан, ни в селе Селифан.» Слабоволие Манилова подчеркивает и то, что хозяйством у помещика занимается пьяница-приказчик.Обобщенность, абстрактность, безразличие к деталям — свойства миросозерцания Манилова.В своем бесплодном идеализме Манилов антипод материалиста, практика и русофила Собакевич. Манилов - мечтатель, и мечты его полностью оторваны от действительности. "как хорошо было, если бы вдруг от дома провести подземный ход или через пруд выстроить каменный мост".Помещик только занимался прожектерством: мечтал но эти прожекты не воплощаются в жизнь. Сначала он кажется приятным человеком, но потом с ним становится смертельно скучно, потому что он не имеет собственного мнения и может только улыбаться и говорить банальные приторные фразы.В Манилове нет живых желаний, той силы жизни, которая движет человеком, заставляет его совершать какие-то поступки. В этом смысле Манилов, - мертвая душа, «не то, не сё».Он настолько типичный, серый, нехарактерный, что у него даже нет определенных склонностей к чему-либо, нет имени и отче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0" y="914400"/>
            <a:ext cx="7702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. считает себя воспитанным, образованным, благородным. Но заглянем к нему в кабинет. Мы видим кучки пепла, запыленную книгу, которая уже второй год открыта на 14-й странице. в доме всегда чего-нибудь недостает, только часть мебели обита шелковой тканью, а два кресла обиты рогожей. Слабоволие М. подчеркивает и то, что хозяйством у помещика занимается пьяница-приказчик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8" descr="1009874_9874_301"/>
          <p:cNvPicPr/>
          <p:nvPr/>
        </p:nvPicPr>
        <p:blipFill>
          <a:blip r:embed="rId1"/>
          <a:stretch/>
        </p:blipFill>
        <p:spPr>
          <a:xfrm>
            <a:off x="6724800" y="3048120"/>
            <a:ext cx="2419200" cy="3809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3108960" y="649116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. Н. Кедров в роли Манило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685800" y="457200"/>
            <a:ext cx="71629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 Маниловцев и обломовцев, несомненно, есть сходные черты. И те и другие бездеятельны, мечтательны. Однако обломовцы бездеятельны в меру своего мировоззрения и образа жизни, сложившегося в результате реакции на окружающие обстоятельства. Обломовцам не по нраву напряжение и спешка. На первый взгляд Обломовцы духовно бедны, но ,на самом  деле, душевный склад таких людей довольно непрост, он кроет в себе настоящий «клад». Маниловцы же, наоборот, могут создать ощущение того, что они духовно богаты, но это ни что иное как их собственная выдумка. Фантазии Маниловцев заставляют их поверить в собственную значимость, но , на самом деле, такие люди очень просты и духовно бед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sandrit</cp:lastModifiedBy>
  <dcterms:modified xsi:type="dcterms:W3CDTF">2014-01-17T22:41:55Z</dcterms:modified>
  <cp:revision>5</cp:revision>
  <dc:subject/>
  <dc:title>Обломовщина и Маниловщи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